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F763-5B96-41C8-99A3-ACADC3E1D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6C48-1250-465A-8D1C-B600CDCB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1A43-1D71-4339-B9B8-EBB2D1939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68EC-6C7E-4795-BEAD-6933252F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141A-9DEA-4ABA-B642-A0BA9E0A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6D470-1F20-403D-B88F-151117F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03B38-6A95-43B0-B634-32C25E70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0AA59-1D4F-41F8-9777-0540746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78BFF-8C0D-4E5B-9680-836D6B1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504B9-476B-4F6E-922C-A936148D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18603-D2C0-425A-9763-B7F227C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02693-01DF-46BC-B6E5-0C77C463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8D759-AA78-469F-B4FD-A3F793ED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C430C-4D87-4CFF-88D3-A047C0FA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39A8B-D8CC-4598-87AC-81AB6095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AA64-A0C1-4770-A503-EFA2ED45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A02CC-32C3-41E7-9A87-8CB2A42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F5FC2-13B7-4747-BD1C-856B347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675A4-73BC-4AEA-A06E-0715F718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91B16-069E-451E-97EF-5708927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A054B-8B12-4320-894F-A9FF7EF8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3151C-2F0C-4FEE-81B2-E3B8233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5E52F-A6AF-4773-B64E-70FF55EF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D78B5-BB17-45D2-8786-D1083CE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35ABF-4743-49C9-92E4-C0D185B2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C9FBB-23F9-4DAC-B3C5-4263B2F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00DD-90AA-4D23-886A-3340853C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E9077-1B8B-4C22-AEE2-DD09B380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E099C1-FF2E-4C58-8E35-6CF21E2C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CAEEE7-A5C9-43D7-840F-7BC3151A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4B4CF-8112-46EF-B8C3-3F1AA9D9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01FCBE-B57D-4D82-9819-B53A691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77F7D9-FB9A-43DF-993D-17CCE85B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571F35-96F6-45DB-B0BE-7F028810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65CC5C-F2E8-4152-BD56-023F5B4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076133-AEE4-4792-8BCF-A730513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18005F-D6D9-494E-821C-623E378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CB4A-5A28-41FD-814D-356F880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77062C-EFEE-418F-8173-322DED5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A0F667-2B9E-4BE4-BD0F-A2D25628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EE8D38-2146-45FD-BB7B-3B11528C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A21BA-3750-4F0A-AE48-5FF3B8E4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89CB5-2BFC-48E6-8CE4-D6A18E6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A19EF-BF8D-44CB-BC93-9724A0E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442FF-9338-4E20-8DFC-1DE12617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04A9E-C14F-4B8F-9174-078B272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56ECE-39D2-41A9-96D6-38857F6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B1F5A-466F-42BC-9B95-803DB72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BD69-A5C5-4A67-A91C-B9C83D3F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B70FC-5084-438E-B4F6-DE26B8B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5DE92-73A7-4E68-8543-DD26815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3CF6C-950A-4073-8C37-AFC8EE2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E89D3-629C-43E5-B566-1A8847CB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E8CDE-0031-4E82-B570-3D84F13B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7DFE74-2992-4BCA-8E40-5390FF61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DEC0AB-1C42-42F1-BBC4-EE7A7385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196EE3-BF39-4E21-BC60-2C7A347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4C4743-A97A-45E7-B635-6E61A04A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40E291-FB83-494B-92D9-360F73D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F8F-8BCB-4648-9D56-36619B73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210AF0-D654-4951-BA65-E61B8370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CF53F6-D15A-4F76-83BB-A0BB4BB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B62A27-5543-4D4E-B120-51C8BD6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F6F55E-8616-4119-BA8C-7AC74E2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B2007C-348E-4F94-8EFA-495B2A9F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62BB14-D57B-4572-A408-C25F0033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27ADD0-46BB-42E3-8DC5-78852546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1D000B-1823-4086-B3BD-19D6435F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C2A659-82BC-462B-94DC-4F18D5AB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D7ED81-93B0-4C42-9A51-4AE408FF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0FDC-37FD-49A3-AE2C-63E722ED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7070B3-A553-4CC9-BE4F-243EB88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201E16-D9F0-4986-B747-3579165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E60240-B043-4326-AB04-1BE685A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30E589-A9E9-410B-9687-683E16E0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A9868C-2C6B-4817-B348-F5193113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CD54E4-BC27-4AB3-8C71-ECD1121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B41924-6992-4897-80E8-66F82170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A5B4B2-5866-41E0-8C02-F07DF0AF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1879C2-F1C6-4BF4-B2E0-82C46C85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DD1549-296F-453E-B916-64DE8FF7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9B5-B7EE-4EB7-A5B5-BAC8500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7169B4-6824-4891-9687-55E9BDF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5A01C1-562F-48A3-A87C-700EBB5E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4CC998-8C10-4215-8B1F-7C2CDA31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5BDB44-3391-4EEC-BB45-469C65F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08E2EF-6705-4710-BF7D-3D409681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E44ACB-E971-453F-9C2D-D07547A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41A380-ACE6-4B1F-B088-D092A79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57645F-9452-444C-9A56-1966250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EB48F5-EE28-4B8B-AA7D-B397DC1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DF185C-2244-40B0-854D-9390B930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6BC-93B3-4B0A-AD5F-3756D869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31D6B7-288F-47A7-B723-A8EF9B52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44B55B-C6A9-4706-88C0-BBF2619C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67ADAA-9906-46AB-9712-EC8553D0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826AAA-E314-4244-B757-94B8E14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57C87B-7BF3-4DEE-99CF-ACB90AF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6B488B-E62A-4C3A-9E22-AD660E7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868D83-9CF4-42A4-9AAA-EB62B2E6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06285F-C14E-4F54-A6AC-45FCB73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D3F36A-EDED-4653-B3DA-3D07BA10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8B9F85-FAA4-4322-8FC0-4AF80144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D780-9EF1-4F1C-B170-3734C70F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D66925-8FB6-402D-96D7-ED809958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DDCDC9-7BEE-4DD8-AA82-3BDB68F8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29455B-4AC9-4198-8DB6-18F6661F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000565-8595-4ACB-BCA2-EC6E7AFC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2F98F2-F92D-42A1-A05C-FC69B1E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0973C5-BF3C-4BB5-B898-2F45709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79115F-2348-4616-8ABC-68307D2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4851E4-3FCE-4B4B-ABC8-A854EA0F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1E3F9A-2859-4C69-AD20-60F424FD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6F7D73-BA9B-46DB-905A-14F5739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CD29-3696-4D72-833B-0A695E5B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E852-DEC1-49B3-AB6D-F142380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9A4A22-90AF-48FB-9463-4DD1817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13DF5E-CFB7-4FA3-BE48-28B3A34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F2EB02-CA39-4A7D-8633-153772A0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951E3C-DEE2-40D9-87BF-188F19FA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E65A1E-0AAC-4E48-96D1-E7408BC8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BEA659-0965-40A4-9E65-0B64B6A0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1CE50C-2513-41D2-89CE-07D3F63E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6F906D-3027-4869-BD35-9D522015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13EDE9-1E7C-4D6B-A05C-FC4B646A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025582-CEF4-4F0F-8CF9-C519FEEE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6B08-08E2-4DA1-B030-44EC80E9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EE1920-92AF-4938-A1A4-F8175CA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5D1602-A72A-4F72-BA94-54BAA41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F7FD52-3A7C-480C-B5D1-1CDA402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1CAB1D-2994-4577-9568-78B855A4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925D15-F5C2-4358-B3E9-8A6F694B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ADFA43-E3D4-400C-B03C-603FE915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2A6996-D8A5-4E60-AE4D-7246FF63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E365D0-C220-44F0-867E-B1AC5C65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564126-66F3-41D3-AB26-475261AB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361ABE-6FAB-4D83-8EB9-CAA9DA36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7537-A62B-4EC3-92B0-F8A7247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D2D41E-58C5-464A-924D-BBE2A39B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91F3A8-862B-443B-9756-89FF1831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D15CA3-59E8-4157-8FC5-F7F04DC7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9DECED-B5A2-4812-AD08-73AD475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68F757-2697-43F9-8A63-32B28A97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264935-D5FE-4602-B903-1707759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3EB0D7-0C94-4888-A642-43C55BF2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5214CC-98D2-43D9-96B7-8269E399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CCFCEE-0BF1-452D-BF4E-78809739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E40C72F-6235-40E2-B69D-B3641246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E610-845A-44C9-97D2-011AA094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2584BE-02C6-42E2-868E-69BF5DE2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CFF00C-975F-4530-BB82-93E4C9D7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801A91-5F0E-4DDA-BBAA-4E14EE72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D8B70C-A955-475F-84F4-AF782A2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AB0D13-1674-41FA-865F-DDFEE83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941C42-2F3B-4EF1-986A-DA92017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579F73-4B11-4FE9-B1F7-656BF4C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6F0509-5599-47FD-BCE4-7A3D650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BF3424-06CC-4851-95CD-E166BB4D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56F14B-C503-4C1A-A1BF-6CD51F82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628A-9531-473A-A06D-B8E4FDF5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FC6748-B3ED-4109-B049-D53D218A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EBBE84-C874-4175-A379-E6530A2D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E57766-C17B-49F1-834C-519C750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25967D-7211-4250-9131-E15E8EAD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CF6E1D-65FD-47D8-8BAA-8D8DCFB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08AFC8-3F65-45E5-8FCA-210D32EB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07DA644-0739-49BF-943F-E6FDFAFD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BA9F6A-0F28-4782-8BDE-129B7C7E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4FE80B-D2D3-43C0-97C5-24ECC26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47AF6F-1CB7-496C-B8E1-49F1118A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AF155-429A-489F-B12C-526ED3C878D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18AB16-79F8-44A7-8F27-D5E2C3A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05C125-F97B-4D0E-A2BA-22160172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C1B25F-629B-470D-89B6-559227C6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47104B-2C34-446E-9E0B-5FEC9227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8D33B4-B82E-4111-924C-817E3F5F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2C2CEFF-9F51-4110-94B7-1572F3C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4C321F7-55BE-4117-9F12-915131E6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908E59-104F-4A4B-800A-60AE0917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05713E-19C7-48F5-89B6-64237EBA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3E7442-007E-4DA9-9D76-790586E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26F57-FA83-406C-A0B3-02EC6FF4CD5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753572-8066-483E-946E-FA4C29B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63C76B-4CD6-40D4-8EA6-6F09479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198157-777A-414B-85B8-848A94CD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6E1ED9-9CDA-46DE-BC25-693D8F86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E4DCA7-C311-4AE3-A8FF-085A81AA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36A576-4DA9-4582-9881-B2C1760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F16CEE-F6E2-440E-BA45-21CF0CF3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3F4361-8008-4BAF-A418-15A966B2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2F513D-83CE-4467-8902-9CB1E74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59FE4A-C9D3-44C7-AA71-229F8CAB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5A6C4-8742-4A2C-A0E2-0F7EDA3B555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F65E90-BF3F-4E09-B755-4204179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D5F7AA-86E0-48A1-848B-24EB704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98BDD49-9217-48E8-94C9-BDA358E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65E6F4-11EA-42E0-A42B-379A45B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4E7037-7582-404D-AEAA-FF8DCD6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E04F10-C9DA-4001-A7AE-3AAE7D68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39157F-CBC6-4F45-9B45-2BA4BDE1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FE24418-2107-4E39-A0EC-550F029A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A7C6B7-BEE5-4B15-A3DE-4560949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6B63E6-76C8-4C95-B27B-4A3DD447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6FB9B-F645-4D4A-80C0-0CC8FD264BE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078D22-4609-45E8-BF4A-DDBE5180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1D76D3-DF69-4DA6-B3A8-F79475AF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BA65B0-31D1-405C-83D9-BE4BE6FE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AAABDB-73ED-4881-9526-F9017829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C15CB2-1EDE-48B6-868A-229D309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C84539-19A3-475D-980C-5842DC8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4F30D7-D639-4600-A3F4-F2DD0E1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DB555A-6A38-4EFC-B651-C078B79D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FD94DC9-426E-45A5-830C-08A29C86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EC291-57EB-43B8-9456-BB91877057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EAAC8-2689-4C94-B19C-DDC867C82B9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5D2C26-ADB2-4226-B5DD-57B148717B8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591E6F-B376-47CA-9FD8-0DEBC5F6101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DF8C10-1662-452E-AC12-1969A9A2B8E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7ED4C-97DE-4600-B269-28301011D91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3B9963-E868-43A5-A0C2-04CDAD271A1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FE6BCE-17CE-4D57-A179-986E7254083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FB106F-8C8D-4EC3-9B6C-5099C899E8F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D693C1-2CC7-4818-8350-0984044424A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3B74F-1ABC-4C47-8AF5-58C39CA7DBB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F2AC9F-5EEE-4278-AF3D-8B6722AEF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3B64-A124-4853-980B-9CCBD961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2136B-6399-4789-AAEA-5A2851E60AD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60119E-F64E-47AE-9A19-C8B884C596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00D2D-5E0A-4BCF-B626-7AC6543F2D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83C34-A85E-44D5-9FAA-0996C59C6E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22EA4-A8FE-4625-9348-140117A338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51C32-DD61-4442-B49F-F4AA1F4F93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05F77-FF76-4AB3-9E06-C0BAF8D4CA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2B4E9A-9A98-4586-B5CE-A08518BC0C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754D1-49F3-4EE6-AD4E-FBDEFA0C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0C759-F7D3-4A7F-AEA1-B3860560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62576-73A2-4A04-B364-EABCE490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5254-D350-4264-B2CB-8D5F8585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DB665-CBF3-4658-8F4A-BE065C1E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16AA9-BF3B-4E50-81B4-D35EFE4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1784C-C0CC-4DC2-907A-27B03D2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F5C74-C6A1-4757-A63A-2BBD43E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5D96D-0F2F-46D1-A170-F082E5D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F5531-8901-467A-9C11-8814A45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3AAE9-4005-421F-9270-C6F0978C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35626-4A74-41FB-9DD4-6621DCEE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6399B-BA6C-4860-B9F5-34C467E5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6E845-4417-47C4-AD0E-B6AD5280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86E7-F90C-4BAC-925C-A57C32A2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2076EB-9FC4-4E1B-93B0-5D5DD1A0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C4785-51CF-41AE-A6F5-DA9F499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C33096-04A2-47AB-B2DE-34C846C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FC9263-62AC-4E32-BCB4-068B756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0AEA1-6750-418A-A9CC-7354DAD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7CBFD-D0DC-4387-BC4E-0C5F065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6FC6AE-8450-41DE-92A1-F14187A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FBADA4-EF30-4A94-A869-162097F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E978E2-9B7B-4156-A53F-EAB6C94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E953F-C06D-4F47-9E62-41904FC8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4406-D3D3-4151-B910-BD9E600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ACA76-9B22-4D25-A9CA-31BBBBA5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9F11FA-C7FA-41B2-8B74-49378C23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8EEA5-0848-4F78-B9A8-BE468E5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A5576-E43A-4EF2-A8FC-D06AFA10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5576D-A120-4A7F-A087-94F0CD9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27F2F2-5BC9-4299-9EB8-102AFEE5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E674F-685D-4464-91D0-EC8F615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CAA31-F5A6-44A4-A33E-BE79E22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48848-2980-448F-8A1E-8905347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88709-C79A-45D7-911A-6426091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ACEF-B932-4674-9E15-ABF6FE6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1A70DD-16D7-4825-867A-D26C0B58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0C1B9-7E23-4F06-B8AA-38BD1927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9AE9C2-053C-46D5-BE87-51F0830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E20FE8-CA54-4D86-998B-1FF0253E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5D619F-3F69-42D7-9551-AA2F8E3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A7FCA0-3543-4E0E-B366-F7C8EC1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FA99C-EC04-4BBE-BC71-D4C2303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935AA-BCC9-4267-83C7-004DA70E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14624A-958E-4FBD-BB0D-33844889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82848-7DBD-439F-8236-E181531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78FA-DB5D-4574-8629-6369412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525FE-FEAB-4161-967C-54B8902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321143-0BD2-461C-BC5E-C750AD9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A90727-1A8F-4F1C-8907-AD9DF41D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99BFEB-B4DC-4235-A446-F24F15FC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9DF12C-D922-4CA8-AB48-8B51D619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4C806-90EC-48E1-85EF-5E85B404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60297-47D7-4796-8915-9DA472C0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E88F0-E12C-4E65-9DA4-A00D736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70522-742B-4F31-8CC5-0512E8F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31708-C383-4750-9801-AA4E37A8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251A-B569-4900-A81B-6812AC1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5FF0FA-46FB-404B-8581-CC75A033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46340-47D9-4589-A623-AC26072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BD8466-25F5-4696-BC0A-70CD0DB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2CBA14-F31F-40BB-9792-FAE10D96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0D46A-F080-4405-B7D9-4614194E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D85FA-E8B0-46BF-86C5-6BB4E327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7C1B9E-3FE7-4338-877B-0106C0C9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67594-04CC-42FE-BAEC-62666624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85475-5F40-497B-96F1-0A765838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49DCF-CBC1-4A34-8173-69E71B5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00C-757B-42CD-95C6-69BC7FEF99D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73F-3887-4E69-AFD4-9B671D3301F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1BD-B8E1-4AED-B6D8-2B0F7402C46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65B8-0EE7-498D-997C-CD8B7CEB492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F175-D2F2-48AB-A50D-D087A49ADC2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D28D-5E8B-4100-BFA9-2F5661889A0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F15-13EE-4E95-B594-FBE86456510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A4E9-7D7B-4B67-B1F2-90D9992023C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80C-37BD-49B0-A473-8D138931010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ACB-980B-433F-B974-B5663BBF03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477-14FE-4919-A11B-E27A6FAF460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25EF-C18E-4242-AAB8-FC21E828420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7DA6-9816-474F-982F-37BDD2C7C67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0A6A-7B9B-466E-B34F-C066C7F2E7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AE67-BAF2-4FE1-8866-61228CFDFD7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6F16-43BD-45BE-8908-3262DBCFA59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077F-C4E8-494F-B40B-1DB878AA2F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08AE-9490-4CC1-B040-7242FF39AC4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B16C-7799-4736-80C1-BACCC7A8C78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1F2-3355-48AD-AE3B-E8D325601DC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88D0-5453-45FC-9D12-D894B2E8B97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193F-0C61-4D54-81EA-715C5A3AB30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0303-C1DC-4392-B38F-8DC26D1E7B6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BE0-89F6-47C9-ABD8-8CE1AF2EAF0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8B6-96F5-4C76-AA0E-12E0B719E29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FECB-A1B6-4B39-BD4C-554FC11C3796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-commerce portal design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ortals provide enterprise wide solutions to a broad and diverse set of departmental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helps in providing solutions to business proc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olvement of end users and different stakeholders is necess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t the priorities and provide solutions to the business model through e-commerce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lps in defining a portal strateg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C223-E750-4EE4-BDC1-3E6DA025974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 the end of the chapter, the students would lear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need to design e-commerce por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framework to design the portal for effective channel man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ation strategy for the por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E0E8-BCB3-43F3-B737-19ABD1B9249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Need for e-commerce port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Internet has impacted on the way we interacted with friends, carried out our business oper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Has impacted on brand equity of a firm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ecommerce surviving and growing every yea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Survived 7/11 because internet based organizations executed their disaster recovery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Survival was easy for the organizations who had e-commerce portal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Could regroup faste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dopted changes in the regulations faste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Least affected in corporate accounting scandal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fter dot com bust, ecommerce was an essential and growing part of the organiz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e-commerce portal gives optimum benefit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ligned with business model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44352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430-2977-4596-A06A-CD2BBF67BDA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olidate IT infrastructur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duce costs in maintai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et all the requirements of regulatory as well as other stakeholders, such 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uman Resource (HR) portal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nance portal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rketing port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IO is asked to justify existence of each portal and provide the value to the stakehold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ign the business model with technology invest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ortal strategy  is desirable in consultation with all stakehil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28E6-EE10-4AC8-B991-E7773CFA9ED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749124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Delivering Value through e-commerce portal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mbria"/>
                <a:ea typeface="Arial Unicode MS"/>
              </a:rPr>
              <a:t>Delivering Value through e-commerce portal..contd..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igning business model with portal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ng a steering committee for design and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head should be the leader for the committ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ng strategic goals that would feasible and also technically possi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ior management commit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road 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derstand As-Is and To-Be pro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stakeholders expec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measurement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tain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oss functional integration for fu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versus techn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B897-1482-4D28-8E2B-1FE1DE1FACF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Role of CIO in portal desig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CIO has been defined in many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ward looking organiz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 IT to support business go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iatives in IT infrastructur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ign IT goals with vision and miss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IO is </a:t>
            </a: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esponsible for the information technology and computer systems that support organization g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Use IT as a strategic tool for business mode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CIO is involved with analyzing and reworking existing business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dentifying and exploiting the enterprise's knowledge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to integrate IT with immediate business pla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epares an effective risk management pl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volves stakeholders participation in decision mak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On summary, CIO has a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bined role of enterprise architects, project managers, and business analys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68C4-A3BA-4456-B495-486ABB3DC48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Cloud Computing and e-commerce portal design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oice of private, hybrid or public cloud - as per its convenience and business requir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need to require spending time and efforts for designing the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daptation of best practices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global standardization of tools and procedu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 a portal easier and faster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sier for new enterprise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sier for using data mines and Artificial Intelligen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 analytics tool from existing portal too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kes the development cost les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st suited to market niches, where small-volume manufacturing or niche talent and skills are requir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FFDB-F7E4-41AF-A87D-3A4FDD83C9A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Case Study – Walmart.com and Futurebazaar.co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nalyze the case in the following manne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Industry characteris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orter’s five for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Illustrate traditional supply ch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dvantages and disadvantages of traditional supply ch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Vision, Mission and Business goals of the comp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SWOT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Issues and challenges faced by the comp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strate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Challenges faced in changing from traditional to e-commerce strate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D3B-4B75-4A83-8E65-FA514CA2C7B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Case Study – Walmart.com and Futurebazaar.com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keholders and their value proposi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CIO in ecommerce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admap for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eering committ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Who should be members?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Roles and responsibilities for member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ommunication Strategy during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ewards and recognition to be given for motivating employ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tus review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Mileston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Critical Success Factors to be review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Feedback mechanism for further improv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38EB-DF63-4CE0-9E39-72A98A7FCB8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0T14:19:52Z</dcterms:modified>
  <cp:revision>428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